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3D9-01C9-4712-93CE-D8A6693712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7A13-F060-4DAC-88F0-5B7050EC3F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90E-3F97-4063-A4AB-82177108F6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6B80-5479-4B19-BEBD-28D47029D8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878-41B9-4FDF-9F4C-9BA658DFFD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6574-D808-4FF1-B47A-E81E6CC797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171-6CD4-47E1-9575-B77A6FA0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285-323E-4B76-96DF-C55CB88A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2A6-2398-42C5-9688-B8BEE013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806-CA02-4400-8319-A0A6B8E7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E8A-93FC-4CAA-A415-DAF2F82A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0E0-B8D8-4CC5-886D-E9D7950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C05A-87E8-4A5D-8958-33C9CE0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8374-4E6C-465F-908E-4EE7A923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FB9-9D35-467C-8518-6412C2A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7EEE-8F95-4244-AB33-0F918698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9901-6C44-4FD8-A73A-64E6BDF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088-B9EB-4A7D-9671-18EE399B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DE09-2DB6-4CDB-998F-9263AC4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2F94-BDE6-4A75-B508-77E2033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6040-47AC-42AF-B504-6790223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2D8-F720-4DD1-B2F5-D37B154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D7B-64EE-46F1-8C30-7F096CDF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B36-A661-456F-B848-01767D7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C61-28C5-48C9-A8D9-C7A2885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7D6-08C8-443B-9412-2E6B39B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51D-D2C4-4B40-9DE4-4AC01C70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F3C-6F97-4942-9F6C-F8682CF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4C7-A113-43B5-A35B-68CAAAC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BC9-9D51-408E-9F9A-E155227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C48-0D2B-48A4-9D4A-F1E84315EA63}" type="slidenum"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C34-7CF8-4B9A-96E5-DDDE8098A8BA}" type="slidenum">
              <a:rPr b="0" lang="it-IT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6093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400" spc="-1" strike="noStrike">
                <a:solidFill>
                  <a:srgbClr val="284c6a"/>
                </a:solidFill>
                <a:latin typeface="Trebuchet MS"/>
              </a:rPr>
              <a:t>Nicoletta Biferale – MIUR 31 maggio 2018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0" name="Picture 10" descr="emblema_gr"/>
          <p:cNvPicPr/>
          <p:nvPr/>
        </p:nvPicPr>
        <p:blipFill>
          <a:blip r:embed="rId1"/>
          <a:stretch/>
        </p:blipFill>
        <p:spPr>
          <a:xfrm>
            <a:off x="28440" y="-9360"/>
            <a:ext cx="1087560" cy="942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307080" y="149400"/>
            <a:ext cx="89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84c6a"/>
                </a:solidFill>
                <a:latin typeface="Trebuchet MS"/>
                <a:ea typeface="Times New Roman"/>
              </a:rPr>
              <a:t>Ministero dell’Istruzione, dell’Università e della Ri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WordArt 15" descr=""/>
          <p:cNvPicPr/>
          <p:nvPr/>
        </p:nvPicPr>
        <p:blipFill>
          <a:blip r:embed="rId2"/>
          <a:stretch/>
        </p:blipFill>
        <p:spPr>
          <a:xfrm>
            <a:off x="30240" y="920880"/>
            <a:ext cx="896148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84c6a"/>
                </a:solidFill>
                <a:latin typeface="Trebuchet MS"/>
              </a:rPr>
              <a:t>Operazioni durante l’esame scritto  (come da verbali per prove e punteggio ESABAC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3840"/>
            <a:ext cx="91440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i="1" lang="it-IT" sz="1800" spc="-1" strike="noStrike" u="sng">
                <a:solidFill>
                  <a:srgbClr val="284c6a"/>
                </a:solidFill>
                <a:uFillTx/>
                <a:latin typeface="Trebuchet MS"/>
              </a:rPr>
              <a:t>per semplificare le operazioni della Commissione, sono forniti i format di tre verbali (svolgimento quarta prova – pag. 44 - e attribuzione voto quarta prova e punteggio finale terza prova –  per l’ESABAC général pag. 57 e techno pag. 60)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284c6a"/>
                </a:solidFill>
                <a:uFillTx/>
                <a:latin typeface="Trebuchet MS"/>
              </a:rPr>
              <a:t>Général 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:  si attribuisce il punteggio alla prova scritta di francese e  alla prova scritta di storia, poi si attribuisce il punteggio complessivo della quarta prova calcolando la media tra i due punteggi (numeri interi con eventuale arrotondamento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284c6a"/>
                </a:solidFill>
                <a:uFillTx/>
                <a:latin typeface="Trebuchet MS"/>
              </a:rPr>
              <a:t>Techno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: si attribuisce il punteggio alla prova scritta di francese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- si determina la media dei punti tra il punteggio della terza prova e quello finale della quarta (punteggio complessivo della terza prova scritta).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284c6a"/>
                </a:solidFill>
                <a:uFillTx/>
                <a:latin typeface="Trebuchet MS"/>
              </a:rPr>
              <a:t>	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Operazioni durante l’esame orale - colloquio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3840"/>
            <a:ext cx="91440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i="1" lang="it-IT" sz="3200" spc="-1" strike="noStrike">
                <a:solidFill>
                  <a:srgbClr val="284c6a"/>
                </a:solidFill>
                <a:latin typeface="Trebuchet MS"/>
              </a:rPr>
              <a:t>général: si sostiene una prova di lingua e letteratura francese e si esprime in quindicesimi il punteggio relativo (ai soli fini ESABAC)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284c6a"/>
                </a:solidFill>
                <a:latin typeface="Trebuchet MS"/>
              </a:rPr>
              <a:t>- techno:  si sostiene una prova di lingua, cultura e comunicazione francese e una prova di storia e si esprimono in quindicesimi i punteggi relativi (ai soli fini ESABAC)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91440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84c6a"/>
                </a:solidFill>
                <a:latin typeface="Trebuchet MS"/>
              </a:rPr>
              <a:t>Operazioni dopo l’esame orale  (come da verbali per voto e certificazione ESABAC, rideterminazione punteggi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i="1" lang="it-IT" sz="2400" spc="-1" strike="noStrike" u="sng">
                <a:solidFill>
                  <a:srgbClr val="284c6a"/>
                </a:solidFill>
                <a:uFillTx/>
                <a:latin typeface="Trebuchet MS"/>
              </a:rPr>
              <a:t>per semplificare le operazioni della Commissione, sono forniti i format di quattro verbali (attribuzione voto finale e certificazione  per l’ESABAC général – pagg. 77 e 86 - e per l’ESABAC techno pagg. 82 e 92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- ai fini dell’ottenimento del  DIPLOMA DI BAC 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1)  si calcola il punteggio complessivo della prova di francese  ( media aritmetica dei punteggi attribuiti allo scritto e all’orale e eventuale arrotondamento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2) si calcola il punteggio globale della parte specifica dell’esame ESABAC (media tra il punteggio complessivo della prova di francese e il punteggio della prova di storia con eventuale arrotondamento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284c6a"/>
                </a:solidFill>
                <a:uFillTx/>
                <a:latin typeface="Trebuchet MS"/>
              </a:rPr>
              <a:t>	</a:t>
            </a:r>
            <a:r>
              <a:rPr b="1" i="1" lang="it-IT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8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prove</a:t>
            </a:r>
            <a:br>
              <a:rPr sz="4400"/>
            </a:b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 specifich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32000" y="0"/>
            <a:ext cx="60120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1800" spc="-1" strike="noStrike">
                <a:solidFill>
                  <a:srgbClr val="284c6a"/>
                </a:solidFill>
                <a:latin typeface="Trebuchet MS"/>
              </a:rPr>
              <a:t>tabella con punteggi prove ESABAC ed il punteggio finale (in quindicesimi, per numeri interi e attribuiti dall’intera Commissione a maggioranza), poi successiva tabella che riassume i candidati che hanno superato/fallito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916280"/>
          <a:ext cx="9036000" cy="4962240"/>
        </p:xfrm>
        <a:graphic>
          <a:graphicData uri="http://schemas.openxmlformats.org/drawingml/2006/table">
            <a:tbl>
              <a:tblPr/>
              <a:tblGrid>
                <a:gridCol w="1444680"/>
                <a:gridCol w="1447920"/>
                <a:gridCol w="1446120"/>
                <a:gridCol w="1444680"/>
                <a:gridCol w="1309680"/>
                <a:gridCol w="1942920"/>
              </a:tblGrid>
              <a:tr h="77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andid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unteg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unteggio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olonna 1 - Punteggio prova scritta di lingua e letteratura francese  (o lingua, cultura e comunicazione france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/15</a:t>
                      </a:r>
                      <a:r>
                        <a:rPr b="0" lang="it-IT" sz="28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olonna 2 -Punteggio colloquio di lingua e letteratura francese  (o lingua, cultura e comunicazione france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/15</a:t>
                      </a:r>
                      <a:r>
                        <a:rPr b="0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olonna 3 -Punteggio complessivo in lingua e letteratura francese(o lingua, cultura e comunicazione france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/15</a:t>
                      </a:r>
                      <a:r>
                        <a:rPr b="0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edia – con eventuale arrotondamento -  tra punteggio colonna 1 e punteggio colonna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olonna 4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unteggio prova  scritta (général) o  orale (techno)  di 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/15</a:t>
                      </a:r>
                      <a:r>
                        <a:rPr b="0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Colonna 5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UNTEGGIO FI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in quindicesimi), in base alla media matematica dei voti di francese e di 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edia – con eventuale arrotondamento - tra punteggio colonna 3 e punteggio colonna 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’ESABAC – Casi specifici…</a:t>
            </a:r>
            <a:br>
              <a:rPr sz="3200"/>
            </a:b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Rideterminazione puntegg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84c6a"/>
                </a:solidFill>
                <a:latin typeface="Trebuchet MS"/>
              </a:rPr>
              <a:t>Articolo 7, comma 4 DM n.95/2013 e art. 6 comma 7 DM 614/2016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84c6a"/>
                </a:solidFill>
                <a:latin typeface="Trebuchet MS"/>
              </a:rPr>
              <a:t>se  il punteggio globale della parte specifica dell’esame ESABAC è   inferiore a 10/15 non si tiene conto dei risultati conseguiti dai candidati nella quarta prova scritta;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84c6a"/>
                </a:solidFill>
                <a:latin typeface="Trebuchet MS"/>
              </a:rPr>
              <a:t>analogamente, non si tiene conto dei risultati della quarta prova scritta, se la stessa inficia con il suo punteggio il superamento dell’Esame di Stato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In questi due casi la Commissione, all’atto degli adempimenti finali, deve rideterminare il punteggio della terza prova scritta </a:t>
            </a: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e pubblicarlo all’albo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; il candidato non otterrà, naturalmente, il diploma francese di Baccalauréat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Il supporto regionale alle scuole durante l’esam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84c6a"/>
                </a:solidFill>
                <a:latin typeface="Trebuchet MS"/>
              </a:rPr>
              <a:t>Problematich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05000"/>
              </a:lnSpc>
              <a:spcBef>
                <a:spcPts val="90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84c6a"/>
                </a:solidFill>
                <a:latin typeface="Trebuchet MS"/>
              </a:rPr>
              <a:t>attribuzione dei </a:t>
            </a:r>
            <a:r>
              <a:rPr b="1" lang="it-IT" sz="3600" spc="-1" strike="noStrike" u="sng">
                <a:solidFill>
                  <a:srgbClr val="284c6a"/>
                </a:solidFill>
                <a:uFillTx/>
                <a:latin typeface="Trebuchet MS"/>
              </a:rPr>
              <a:t>punteggi</a:t>
            </a:r>
            <a:r>
              <a:rPr b="1" lang="it-IT" sz="3600" spc="-1" strike="noStrike">
                <a:solidFill>
                  <a:srgbClr val="284c6a"/>
                </a:solidFill>
                <a:latin typeface="Trebuchet MS"/>
              </a:rPr>
              <a:t> e arrotondamenti necessari al momento del calcolo delle medie (all’interno della quarta prova per ESABAC GENERAL, tra terza e quarta prova; tra prova di francese scritta e orale e tra il punteggio complessivo attribuito al francese e quello di storia)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…</a:t>
            </a: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continu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03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84c6a"/>
                </a:solidFill>
                <a:uFillTx/>
                <a:latin typeface="Trebuchet MS"/>
              </a:rPr>
              <a:t>	</a:t>
            </a:r>
            <a:r>
              <a:rPr b="1" lang="it-IT" sz="3200" spc="-1" strike="noStrike" u="sng">
                <a:solidFill>
                  <a:srgbClr val="284c6a"/>
                </a:solidFill>
                <a:uFillTx/>
                <a:latin typeface="Trebuchet MS"/>
              </a:rPr>
              <a:t>Problematiche relative all’ESABAC techno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Quarta prova scritta: solo lingua, cultura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e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comunicazione, scelta tra le due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tipologi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Punteggio  complessivo della terza prova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scritta: la media è tra la quarta prova di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ingua francese e la terza prov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Punteggi da attribuire all’orale: si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deve attribuire un punteggio specifico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alla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prova di storia e uno alla prova di 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frances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’ESABAC – la normativa di riferimento esami 2018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DM 95/13 </a:t>
            </a:r>
            <a:r>
              <a:rPr b="0" lang="pt-BR" sz="2800" spc="-1" strike="noStrike">
                <a:solidFill>
                  <a:srgbClr val="284c6a"/>
                </a:solidFill>
                <a:latin typeface="Trebuchet MS"/>
              </a:rPr>
              <a:t>e </a:t>
            </a:r>
            <a:r>
              <a:rPr b="1" lang="pt-BR" sz="2800" spc="-1" strike="noStrike">
                <a:solidFill>
                  <a:srgbClr val="284c6a"/>
                </a:solidFill>
                <a:latin typeface="Trebuchet MS"/>
              </a:rPr>
              <a:t>DM 614/16, </a:t>
            </a: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norme specifiche svolgimento esame ESABAC – ESABAC TECHNO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OM 350/18 e verbali allegati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che rimandano ai DM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NOVITA’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L’Esabac «techno»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per il  conseguimento del duplice diploma negli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indirizzi AFM e Turismo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del settore economico dell’istruzione tecnica riguarda per la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rima volta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la sessione esami 2018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Non tutti gli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istituti tecnici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hanno scelto di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artecipare (23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in questa prima fase transitoria)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tangolo 1"/>
          <p:cNvSpPr/>
          <p:nvPr/>
        </p:nvSpPr>
        <p:spPr>
          <a:xfrm>
            <a:off x="179280" y="69228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3366"/>
                </a:solidFill>
                <a:uFillTx/>
                <a:latin typeface="Arial"/>
              </a:rPr>
              <a:t>I NUMERI DI QUEST’ANN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3366"/>
                </a:solidFill>
                <a:uFillTx/>
                <a:latin typeface="Arial"/>
              </a:rPr>
              <a:t>283 ISTITUTI SCOLASTICI TRA LICEI E ISTITUTI TECNICI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3366"/>
                </a:solidFill>
                <a:uFillTx/>
                <a:latin typeface="Arial"/>
              </a:rPr>
              <a:t>TUTTE LE REGIONI SONO COINVOL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3366"/>
                </a:solidFill>
                <a:uFillTx/>
                <a:latin typeface="Arial"/>
              </a:rPr>
              <a:t>IL TECHNO (AFM E TURISMO RIGUARDA 12 REGION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rebuchet MS"/>
              </a:rPr>
              <a:t>L’ESABAC – la normativa di riferimento - dai DM 95/13 e 614/16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3366"/>
                </a:solidFill>
                <a:uFillTx/>
                <a:latin typeface="Trebuchet MS"/>
              </a:rPr>
              <a:t>Presenza nelle commissioni del  commissario esterno di francese e di storia  </a:t>
            </a:r>
            <a:r>
              <a:rPr b="1" lang="it-IT" sz="2200" spc="-1" strike="noStrike">
                <a:solidFill>
                  <a:srgbClr val="003366"/>
                </a:solidFill>
                <a:latin typeface="Trebuchet MS"/>
              </a:rPr>
              <a:t>(che  può avvalersi  del commissario esterno di francese o su autorizzazione del Presidente  di personale esperto, quale il docente conversatore di lingua, già utilizzato durante l’a.s.)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rebuchet MS"/>
              </a:rPr>
              <a:t>I candidati esterni non possono essere ammessi </a:t>
            </a: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all’ESABAC</a:t>
            </a:r>
            <a:r>
              <a:rPr b="0" i="1" lang="it-IT" sz="2200" spc="-1" strike="noStrike">
                <a:solidFill>
                  <a:srgbClr val="003366"/>
                </a:solidFill>
                <a:latin typeface="Trebuchet MS"/>
              </a:rPr>
              <a:t>, attesa la peculiarità del corso di studi in questione. </a:t>
            </a: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Sono ammessi, a domanda, direttamente agli esami di Stato gli </a:t>
            </a:r>
            <a:r>
              <a:rPr b="1" lang="it-IT" sz="2200" spc="-1" strike="noStrike">
                <a:solidFill>
                  <a:srgbClr val="003366"/>
                </a:solidFill>
                <a:latin typeface="Trebuchet MS"/>
              </a:rPr>
              <a:t>“ottisti”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rebuchet MS"/>
              </a:rPr>
              <a:t>È consentito frequentare il terzo o il quarto anno in scuole straniere all’estero. Al rientro in Italia tali studenti, ai fini della riammissione al percorso ESABAC, devono comunque sostenere con esito positivo una prova, scritta e orale, di lingua e letteratura francese e una prova orale di storia in francese. 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’ESABAC – la normativa di riferimento dal DM 95/13 – ESABAC GENERA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386000"/>
            <a:ext cx="903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er l’ESABAC GENERAL le prove della parte specifica dell’esame sono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francese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 (</a:t>
            </a: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lingua e letteratura) scritto e orale; storia scritta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Allegati 2,3,4: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rogrammi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di lingua e letteratura francese e di storia nonché la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tabella di comparazione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per l’attribuzione del punteggio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Allegato 5: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Obiettivi, struttura e valutazione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delle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rove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scritte e oral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’ESABAC – la normativa di riferimento dal DM 614/16 – ESABAC TECHNO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er l’ESABAC  TECHNO le prove della parte specifica dell’esame sono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Francese (lingua, cultura e comunicazione) scritto e orale (differenziato per indirizzi); storia oral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Allegati 2,3 e 4: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rogrammi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di lingua, cultura e comunicazione francese (AFM e Turismo) e di storia, nonché la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tabella di comparazione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per l’attribuzione del punteggio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Allegato 5: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Obiettivi, struttura e valutazione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delle 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prove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scritte e oral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Novità prove specifiche – ESABAC TECHNO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1 Francese (lingua, cultura e comunicazione) scritto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Due tipologie: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A. studio e analisi di un insieme di documenti sulla specificità dell’indirizzo oppu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B. Analisi di un testo specifico dell’indirizzo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Attenzione: La prova è differenziata per indirizzi!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2 Francese orale con voto in quindicesim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84c6a"/>
                </a:solidFill>
                <a:uFillTx/>
                <a:latin typeface="Trebuchet MS"/>
              </a:rPr>
              <a:t>3 Storia orale con voto in quindicesimi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Somministrazione prove scritte-Esabac Généra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QUARTA PROVA SCRITTA – 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giovedì 28 giugno 2018, ore 8.30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Durata della prova scritta  di letteratura francese: 4 o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Durata della prova scritta di storia in francese: 2 o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Solo al termine della prova di letteratura francese, dopo un congruo periodo di tempo (ca. 15-30 minuti) si aprirà il plico per la prova di storia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84c6a"/>
                </a:solidFill>
                <a:latin typeface="Trebuchet MS"/>
              </a:rPr>
              <a:t>Gli studenti dovranno rimanere nella scuola e nell’aula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Somministrazione prove scritte  Esabac Techno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84c6a"/>
                </a:solidFill>
                <a:latin typeface="Trebuchet MS"/>
              </a:rPr>
              <a:t>QUARTA PROVA SCRITTA – </a:t>
            </a:r>
            <a:r>
              <a:rPr b="0" lang="it-IT" sz="4000" spc="-1" strike="noStrike">
                <a:solidFill>
                  <a:srgbClr val="284c6a"/>
                </a:solidFill>
                <a:latin typeface="Trebuchet MS"/>
              </a:rPr>
              <a:t>giovedì 28 giugno 2018, ore 8.30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it-IT" sz="4000" spc="-1" strike="noStrike">
                <a:solidFill>
                  <a:srgbClr val="284c6a"/>
                </a:solidFill>
                <a:latin typeface="Trebuchet MS"/>
              </a:rPr>
              <a:t>Durata della prova scritta  di lingua, cultura e francese: 4 or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1:46Z</dcterms:created>
  <dc:creator>lastefi</dc:creator>
  <dc:description/>
  <dc:language>en-US</dc:language>
  <cp:lastModifiedBy>Administrator</cp:lastModifiedBy>
  <dcterms:modified xsi:type="dcterms:W3CDTF">2018-06-03T08:11:18Z</dcterms:modified>
  <cp:revision>156</cp:revision>
  <dc:subject/>
  <dc:title>Presentazione corso di formazi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0</vt:lpwstr>
  </property>
</Properties>
</file>